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jpeg" ContentType="image/jpe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14BD0-D961-4BA6-8DED-E0AE993CC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00EC7-3EBE-42AC-942E-8A166A9E0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E94D4-BA23-44FB-9F2E-81EDF313F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0B1BE7-28AB-48E0-A45D-3737F923E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9804F3-8F86-4E32-AB71-D11DF17AB1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62C6E-3006-40E8-94AB-311205A61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A901E-B681-4094-A4C1-59D151B8C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90701-AE7A-4778-9DE2-F2AE03BEA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DC17A-277A-4256-AA74-6605E160E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FDFEF-19FE-49C8-8D95-EB6E6A88F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DCF44-CFFF-4FA8-8D80-739CCA21D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753EC-3B26-4307-8940-979D2F310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C6E46-3BD7-43C3-A377-F033063D9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15DDB-B5F9-4F57-900E-6818BC602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3F0E3-E832-44A2-A54B-36AB0B8C4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540B37-D07A-4BCF-B7C3-38450734B1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BD5B4A-44C7-4818-B777-157260D3E7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38E38-5026-434B-9337-52700610E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C215B-C932-4942-84E1-8507028A7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B8891-4CDA-4F00-BD63-B989C9D1C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45B78-ECA9-4D07-86F0-B39E855B5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AC5B5-FD78-4D85-BB28-C465FE9F0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ACD7D-F838-48C3-8E2D-DFFE0DB24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28992-B661-43B1-886D-44D55DB18C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37C19-D09F-4555-9B7E-7F5E3723CC7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2D63D-02C1-4A8E-BD89-5BFBEC226B5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rehension</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ategies and Understanding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rehension Proces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monitored.  We check constantly to see if a text makes sense to u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dividual Factors</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est.  Your interest in a text has a lot to do with how well you comprehend it.  This is one of the problems with reading tests, is that when they choose a low interest text, children’s comprehension will be misrepresented.  Of course, there is no one text that will interest all children, so this is a problem inherent in assessing comprehens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gression</a:t>
            </a:r>
            <a:endParaRPr b="0" lang="en-US" sz="4400" spc="-1" strike="noStrike">
              <a:solidFill>
                <a:srgbClr val="333399"/>
              </a:solidFill>
              <a:latin typeface="Tahoma"/>
            </a:endParaRPr>
          </a:p>
        </p:txBody>
      </p:sp>
      <p:sp>
        <p:nvSpPr>
          <p:cNvPr id="139" name="PlaceHolder 2"/>
          <p:cNvSpPr>
            <a:spLocks noGrp="1"/>
          </p:cNvSpPr>
          <p:nvPr>
            <p:ph/>
          </p:nvPr>
        </p:nvSpPr>
        <p:spPr>
          <a:xfrm>
            <a:off x="4419720" y="2017800"/>
            <a:ext cx="4535280" cy="4078080"/>
          </a:xfrm>
          <a:prstGeom prst="rect">
            <a:avLst/>
          </a:prstGeom>
          <a:noFill/>
          <a:ln w="0">
            <a:noFill/>
          </a:ln>
        </p:spPr>
        <p:txBody>
          <a:bodyPr lIns="90000" rIns="90000" tIns="46800" bIns="46800" anchor="t">
            <a:normAutofit fontScale="93000"/>
          </a:bodyPr>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800" spc="-1" strike="noStrike">
                <a:solidFill>
                  <a:srgbClr val="000000"/>
                </a:solidFill>
                <a:latin typeface="Tahoma"/>
              </a:rPr>
              <a:t>I once designed a reading test, and I attempted to choose interesting texts.  One text I chose was about a teacher who brought a snake into her first grade classroom in order to teach the children about snakes and reptiles.  She described how the kids learned a lot more than they had by going to a snake show at a zoo.  Then she described how the snake got loose in the classroom and how she got bit when she caught it. </a:t>
            </a:r>
            <a:endParaRPr b="0" lang="en-US" sz="1800" spc="-1" strike="noStrike">
              <a:solidFill>
                <a:srgbClr val="000000"/>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erson taking the test did very poorly on the questions related to this text.  It turned out he had a deathly fear of snakes!</a:t>
            </a:r>
            <a:endParaRPr b="0" lang="en-US" sz="1800" spc="-1" strike="noStrike">
              <a:solidFill>
                <a:srgbClr val="000000"/>
              </a:solidFill>
              <a:latin typeface="Tahoma"/>
            </a:endParaRPr>
          </a:p>
        </p:txBody>
      </p:sp>
      <p:pic>
        <p:nvPicPr>
          <p:cNvPr id="140" name="an02329_" descr=""/>
          <p:cNvPicPr/>
          <p:nvPr/>
        </p:nvPicPr>
        <p:blipFill>
          <a:blip r:embed="rId1"/>
          <a:stretch/>
        </p:blipFill>
        <p:spPr>
          <a:xfrm>
            <a:off x="609480" y="2590920"/>
            <a:ext cx="3810240" cy="300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dividual Factors</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istence.  Some children have a high tolerance for working out a difficult text.  Others get frustrated easily.  Children who struggle with basic decoding issues (who are not sure of the letter-sound relationships) will have more of a struggle in comprehension and may appear to be less persistent in their dealings with tex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dividual Factors</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nowledge and Experience.  Think about how your knowledge and experience in music influences your reading of music-related texts.  When we read texts in new-to-us areas, we have less comprehension because we bring less to the text.  For many children, school-type texts are foreign and they bring little knowledge or experience to the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dividual Factors</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wareness/Confidence as a Reader.  Children who feel confident as a reader are going to interpret text more easily than children who don’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dividual Factors</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yle of Interacting with Text.  Students who are fluent readers have a different style of interacting with text than students who have difficulties with decoding or vocabulary (due to any number of problems:  learning disabilities, English as a second language, et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dividual Factors</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yle of Interacting with Others.  Think of that intensely social period of life, middle to high school.  Our social interactions can influence how we engage with text (or IF we engage with tex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dividual Factors</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 feel in general and how we feel about a particular topic will influence how we comprehend.  Keep in mind the information on how the brain learns.  It is very hard to comprehend when one is upset about someth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other digression</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 was a good and capable reader, but I remember one time my tenth grade English teacher sent my father a letter home.  I read the note, but I felt so horrible about the necessity of the teacher sending it (as well as my choice to look at it), that I had absolutely no idea what the letter actually said.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rehension</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ading involves a lot more than simply “decoding” the sounds of words, the same way music involves a lot more than mechanically playing not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ollowing reading “problems” demonstrate what is at stake in comprehens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cial Factors</a:t>
            </a:r>
            <a:endParaRPr b="0" lang="en-US" sz="4400" spc="-1" strike="noStrike">
              <a:solidFill>
                <a:srgbClr val="333399"/>
              </a:solidFill>
              <a:latin typeface="Tahoma"/>
            </a:endParaRPr>
          </a:p>
        </p:txBody>
      </p:sp>
      <p:sp>
        <p:nvSpPr>
          <p:cNvPr id="156" name="PlaceHolder 2"/>
          <p:cNvSpPr>
            <a:spLocks noGrp="1"/>
          </p:cNvSpPr>
          <p:nvPr>
            <p:ph/>
          </p:nvPr>
        </p:nvSpPr>
        <p:spPr>
          <a:xfrm>
            <a:off x="4647960" y="2017800"/>
            <a:ext cx="4306680" cy="407808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literacy is valued in a home determines how children will interact with literacy at school.  </a:t>
            </a: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ddle and upper class culture are aligned with school culture; children from these homes are usually well-prepared to take on school tasks.</a:t>
            </a: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ducation has changed significantly in the past generation.  Many children from lower class families have parents who suffered at the hand of insensitive teachers.  These parents are going to be less able to support their children’s work at school.  </a:t>
            </a:r>
            <a:endParaRPr b="0" lang="en-US" sz="1800" spc="-1" strike="noStrike">
              <a:solidFill>
                <a:srgbClr val="000000"/>
              </a:solidFill>
              <a:latin typeface="Tahoma"/>
            </a:endParaRPr>
          </a:p>
        </p:txBody>
      </p:sp>
      <p:pic>
        <p:nvPicPr>
          <p:cNvPr id="157" name="bl00130_" descr=""/>
          <p:cNvPicPr/>
          <p:nvPr/>
        </p:nvPicPr>
        <p:blipFill>
          <a:blip r:embed="rId1"/>
          <a:stretch/>
        </p:blipFill>
        <p:spPr>
          <a:xfrm>
            <a:off x="685800" y="2438280"/>
            <a:ext cx="3809880" cy="3299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cial Factors</a:t>
            </a: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teracy is constructed differently at different schools.  One such split is between urban and suburban schools.  Expectations of how and what children will read differ across these settings, even though in Ohio all children take the same proficiency test.</a:t>
            </a:r>
            <a:endParaRPr b="0" lang="en-US" sz="2400" spc="-1" strike="noStrike">
              <a:solidFill>
                <a:srgbClr val="000000"/>
              </a:solidFill>
              <a:latin typeface="Tahoma"/>
            </a:endParaRPr>
          </a:p>
        </p:txBody>
      </p:sp>
      <p:pic>
        <p:nvPicPr>
          <p:cNvPr id="160" name="pe03254_" descr=""/>
          <p:cNvPicPr/>
          <p:nvPr/>
        </p:nvPicPr>
        <p:blipFill>
          <a:blip r:embed="rId1"/>
          <a:stretch/>
        </p:blipFill>
        <p:spPr>
          <a:xfrm>
            <a:off x="5145120" y="2357280"/>
            <a:ext cx="3809880" cy="3435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cial Factors</a:t>
            </a:r>
            <a:endParaRPr b="0" lang="en-US" sz="4400" spc="-1" strike="noStrike">
              <a:solidFill>
                <a:srgbClr val="333399"/>
              </a:solidFill>
              <a:latin typeface="Tahoma"/>
            </a:endParaRPr>
          </a:p>
        </p:txBody>
      </p:sp>
      <p:sp>
        <p:nvSpPr>
          <p:cNvPr id="162" name="PlaceHolder 2"/>
          <p:cNvSpPr>
            <a:spLocks noGrp="1"/>
          </p:cNvSpPr>
          <p:nvPr>
            <p:ph/>
          </p:nvPr>
        </p:nvSpPr>
        <p:spPr>
          <a:xfrm>
            <a:off x="4267080" y="2017440"/>
            <a:ext cx="4687920" cy="400212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ducation plays different roles in different communities.  For some, education replicates the existing social order, including the inequities.  Some cultures and communities tend to see little of value in education.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ther communities view education as a means towards liberation.  The African American community has historically had this perspective, and much of the Civil Rights struggle took place in and around schools.</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hild’s social world influences how much effort they put into reading and how they interpret what they read.</a:t>
            </a:r>
            <a:endParaRPr b="0" lang="en-US" sz="1800" spc="-1" strike="noStrike">
              <a:solidFill>
                <a:srgbClr val="000000"/>
              </a:solidFill>
              <a:latin typeface="Tahoma"/>
            </a:endParaRPr>
          </a:p>
        </p:txBody>
      </p:sp>
      <p:pic>
        <p:nvPicPr>
          <p:cNvPr id="163" name="ph02944j" descr=""/>
          <p:cNvPicPr/>
          <p:nvPr/>
        </p:nvPicPr>
        <p:blipFill>
          <a:blip r:embed="rId1"/>
          <a:stretch/>
        </p:blipFill>
        <p:spPr>
          <a:xfrm>
            <a:off x="1219320" y="1981080"/>
            <a:ext cx="275112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ord Strategies to Use with Young Students</a:t>
            </a:r>
            <a:endParaRPr b="0" lang="en-US" sz="4400" spc="-1" strike="noStrike">
              <a:solidFill>
                <a:srgbClr val="333399"/>
              </a:solidFill>
              <a:latin typeface="Tahoma"/>
            </a:endParaRPr>
          </a:p>
        </p:txBody>
      </p:sp>
      <p:sp>
        <p:nvSpPr>
          <p:cNvPr id="165" name="PlaceHolder 2"/>
          <p:cNvSpPr>
            <a:spLocks noGrp="1"/>
          </p:cNvSpPr>
          <p:nvPr>
            <p:ph/>
          </p:nvPr>
        </p:nvSpPr>
        <p:spPr>
          <a:xfrm>
            <a:off x="4114440" y="2017800"/>
            <a:ext cx="4840200" cy="40780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ok at the other words around it in the sentence or paragrap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d on and come back to the wor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nk of another word that would make sens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eak the word apart into syllables, base words, prefixes/suffixe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 to sound it ou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read the word in the context of the sentence to see if it makes sense.</a:t>
            </a:r>
            <a:endParaRPr b="0" lang="en-US" sz="2000" spc="-1" strike="noStrike">
              <a:solidFill>
                <a:srgbClr val="000000"/>
              </a:solidFill>
              <a:latin typeface="Tahoma"/>
            </a:endParaRPr>
          </a:p>
        </p:txBody>
      </p:sp>
      <p:pic>
        <p:nvPicPr>
          <p:cNvPr id="166" name="j0078622" descr=""/>
          <p:cNvPicPr/>
          <p:nvPr/>
        </p:nvPicPr>
        <p:blipFill>
          <a:blip r:embed="rId1"/>
          <a:stretch/>
        </p:blipFill>
        <p:spPr>
          <a:xfrm>
            <a:off x="1371600" y="1981080"/>
            <a:ext cx="191304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rehending Non-fiction</a:t>
            </a:r>
            <a:endParaRPr b="0" lang="en-US" sz="4400" spc="-1" strike="noStrike">
              <a:solidFill>
                <a:srgbClr val="333399"/>
              </a:solidFill>
              <a:latin typeface="Tahoma"/>
            </a:endParaRPr>
          </a:p>
        </p:txBody>
      </p:sp>
      <p:sp>
        <p:nvSpPr>
          <p:cNvPr id="168"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ll students before they read:  Scan titles, subtitles, bold-face words, pictures, captions, diagrams, charts, and map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nk:  What do they know about the subject already?</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estion:  What would they like to lear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 sure students understand how the text is set up.  Some double column formats are confusing for students—they might not read the print in the correct sequence.</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 students read:  They should ask themselves if they understand.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fter they read:  They should re-read the confusing parts.  They should summarize what they have learned and decide whether their questions were answere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rehending Fiction</a:t>
            </a:r>
            <a:endParaRPr b="0" lang="en-US" sz="44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fore they read:  Think about the book—what do you know about the book’s subject.  Predict what might happen.  Predictions don’t have to be accurate.  They just need to be reasonable based on the knowledge one already has about a situat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they read:  They should be encouraged to visualize what they are reading.  They should confirm or revise their predictions.  They should question what is going on and why and then re-read the confusing par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fter they read, they should summarize the story in their minds and make connections with other books they have read or events that have happened in their own liv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Your turn</a:t>
            </a:r>
            <a:endParaRPr b="0" lang="en-US" sz="4400" spc="-1" strike="noStrike">
              <a:solidFill>
                <a:srgbClr val="333399"/>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have comprehension processes, individual, and social factors influenced your own reading comprehension?  Have there been times when you comprehended something difficult?  Have there been times when you struggled to comprehend?  Write a discussion thread, a piece for the drop box, or a private e-mail to me about this.</a:t>
            </a:r>
            <a:endParaRPr b="0" lang="en-US" sz="24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may do this all in words, or you may add other media (pictures, sound) to get across your meaning.</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Last!!  The Answer!!</a:t>
            </a:r>
            <a:endParaRPr b="0" lang="en-US" sz="4400" spc="-1" strike="noStrike">
              <a:solidFill>
                <a:srgbClr val="333399"/>
              </a:solidFill>
              <a:latin typeface="Tahom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dle Rat Rotten Hut=Little Red Riding Hood.  Here is what the text said:  Once upon a time, there was a little girl who lived with her mother in a little cottage, on the edge of a large, dark, forest.  This little girl often wore a pretty little cloak with a little red hat and for this reason people called her Little Red Riding Hoo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abberwocky</a:t>
            </a:r>
            <a:endParaRPr b="0" lang="en-US" sz="4400" spc="-1" strike="noStrike">
              <a:solidFill>
                <a:srgbClr val="333399"/>
              </a:solidFill>
              <a:latin typeface="Tahoma"/>
            </a:endParaRPr>
          </a:p>
        </p:txBody>
      </p:sp>
      <p:sp>
        <p:nvSpPr>
          <p:cNvPr id="104" name="PlaceHolder 2"/>
          <p:cNvSpPr>
            <a:spLocks noGrp="1"/>
          </p:cNvSpPr>
          <p:nvPr>
            <p:ph/>
          </p:nvPr>
        </p:nvSpPr>
        <p:spPr>
          <a:xfrm>
            <a:off x="1219320" y="6095520"/>
            <a:ext cx="7354800" cy="420840"/>
          </a:xfrm>
          <a:prstGeom prst="rect">
            <a:avLst/>
          </a:prstGeom>
          <a:noFill/>
          <a:ln w="0">
            <a:noFill/>
          </a:ln>
        </p:spPr>
        <p:txBody>
          <a:bodyPr lIns="90000" rIns="90000" tIns="46800" bIns="46800" anchor="t">
            <a:normAutofit fontScale="66000"/>
          </a:bodyPr>
          <a:p>
            <a:pPr marL="226080" indent="-226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can decode all these words (sound them out), but can you understand what the poem is about?</a:t>
            </a:r>
            <a:endParaRPr b="0" lang="en-US" sz="1800" spc="-1" strike="noStrike">
              <a:solidFill>
                <a:srgbClr val="000000"/>
              </a:solidFill>
              <a:latin typeface="Tahoma"/>
            </a:endParaRPr>
          </a:p>
        </p:txBody>
      </p:sp>
      <p:sp>
        <p:nvSpPr>
          <p:cNvPr id="105" name=""/>
          <p:cNvSpPr/>
          <p:nvPr/>
        </p:nvSpPr>
        <p:spPr>
          <a:xfrm>
            <a:off x="1115640" y="1828800"/>
            <a:ext cx="3617280" cy="414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Twas brillig, and the slithy tov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d gyre and gimble in the wab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ll mimsy were the borogrov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d the mome raths outgrab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Beware the Jabberwock, my s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jaws that bite, the claws that cat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eware the Jubjub bird, and shu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rumious Bandersnat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e took his vorpal sword in ha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ng time the manxome foe he sough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 rested he by the Tumtum tre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d stood awhile in though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d, as in uffish thought he stoo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Jabberwock, with eyes of fl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me whiffling through the tulgey wo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d burbled as it came!</a:t>
            </a:r>
            <a:endParaRPr b="0" lang="en-US" sz="1400" spc="-1" strike="noStrike">
              <a:solidFill>
                <a:srgbClr val="000000"/>
              </a:solidFill>
              <a:latin typeface="Arial"/>
            </a:endParaRPr>
          </a:p>
        </p:txBody>
      </p:sp>
      <p:sp>
        <p:nvSpPr>
          <p:cNvPr id="106" name=""/>
          <p:cNvSpPr/>
          <p:nvPr/>
        </p:nvSpPr>
        <p:spPr>
          <a:xfrm>
            <a:off x="4620600" y="1828800"/>
            <a:ext cx="4034880" cy="307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ne, two! One, two! And through an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vorpal blade went snicker-sna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e left it dead and with its he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e went galumphing ba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And, has thou slain the Jabberwo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me to my arms, my beamish bo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 frabjous day!  Callooh!  Call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e chortled in his jo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Twas brillig and the slithy tov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d gyre and gimble in the wab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ll mimsy were the borogrov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d the mome raths outgrab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adle Rat Rotten Hut</a:t>
            </a:r>
            <a:endParaRPr b="0" lang="en-US" sz="4400" spc="-1" strike="noStrike">
              <a:solidFill>
                <a:srgbClr val="333399"/>
              </a:solidFill>
              <a:latin typeface="Tahoma"/>
            </a:endParaRPr>
          </a:p>
        </p:txBody>
      </p:sp>
      <p:sp>
        <p:nvSpPr>
          <p:cNvPr id="108" name="PlaceHolder 2"/>
          <p:cNvSpPr>
            <a:spLocks noGrp="1"/>
          </p:cNvSpPr>
          <p:nvPr>
            <p:ph/>
          </p:nvPr>
        </p:nvSpPr>
        <p:spPr>
          <a:xfrm>
            <a:off x="304920" y="2017440"/>
            <a:ext cx="8650080" cy="40021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nts pawn term, dare worsted ladle gull hoe lift wetter murder inner ladle cordage honor itch offer lodge, dock, florist.  Disk ladle gull orphan worry putty ladle rat cluck wetter ladle rat hut, an fur disk raisin pimple colder Ladle Rat Rotten Hut.</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passage is for you auditory learners.  Try reading it out loud in order to get the meaning.  The point is, that you can read all these words, but comprehending the story is difficult.  (Answer given at end of slide sho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286000" y="1676520"/>
            <a:ext cx="4724280" cy="4647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2971800" y="2286000"/>
            <a:ext cx="3352680" cy="3352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
          <p:cNvSpPr/>
          <p:nvPr/>
        </p:nvSpPr>
        <p:spPr>
          <a:xfrm>
            <a:off x="3809880" y="3124080"/>
            <a:ext cx="175284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omprehension Proces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urposefu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structiv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otivate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killful and Strategi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f-monitored</a:t>
            </a:r>
            <a:endParaRPr b="0" lang="en-US" sz="1000" spc="-1" strike="noStrike">
              <a:solidFill>
                <a:srgbClr val="000000"/>
              </a:solidFill>
              <a:latin typeface="Arial"/>
            </a:endParaRPr>
          </a:p>
        </p:txBody>
      </p:sp>
      <p:sp>
        <p:nvSpPr>
          <p:cNvPr id="112" name=""/>
          <p:cNvSpPr/>
          <p:nvPr/>
        </p:nvSpPr>
        <p:spPr>
          <a:xfrm>
            <a:off x="3893400" y="2514600"/>
            <a:ext cx="1319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Individual Factors</a:t>
            </a:r>
            <a:endParaRPr b="0" lang="en-US" sz="1000" spc="-1" strike="noStrike">
              <a:solidFill>
                <a:srgbClr val="000000"/>
              </a:solidFill>
              <a:latin typeface="Arial"/>
            </a:endParaRPr>
          </a:p>
        </p:txBody>
      </p:sp>
      <p:sp>
        <p:nvSpPr>
          <p:cNvPr id="113" name=""/>
          <p:cNvSpPr/>
          <p:nvPr/>
        </p:nvSpPr>
        <p:spPr>
          <a:xfrm>
            <a:off x="3265200" y="2819520"/>
            <a:ext cx="64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terest</a:t>
            </a:r>
            <a:endParaRPr b="0" lang="en-US" sz="1000" spc="-1" strike="noStrike">
              <a:solidFill>
                <a:srgbClr val="000000"/>
              </a:solidFill>
              <a:latin typeface="Arial"/>
            </a:endParaRPr>
          </a:p>
        </p:txBody>
      </p:sp>
      <p:sp>
        <p:nvSpPr>
          <p:cNvPr id="114" name=""/>
          <p:cNvSpPr/>
          <p:nvPr/>
        </p:nvSpPr>
        <p:spPr>
          <a:xfrm>
            <a:off x="2949120" y="3581280"/>
            <a:ext cx="861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ersistence</a:t>
            </a:r>
            <a:endParaRPr b="0" lang="en-US" sz="1000" spc="-1" strike="noStrike">
              <a:solidFill>
                <a:srgbClr val="000000"/>
              </a:solidFill>
              <a:latin typeface="Arial"/>
            </a:endParaRPr>
          </a:p>
        </p:txBody>
      </p:sp>
      <p:sp>
        <p:nvSpPr>
          <p:cNvPr id="115" name=""/>
          <p:cNvSpPr/>
          <p:nvPr/>
        </p:nvSpPr>
        <p:spPr>
          <a:xfrm>
            <a:off x="2999160" y="4648320"/>
            <a:ext cx="178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Knowledge and Experience</a:t>
            </a:r>
            <a:endParaRPr b="0" lang="en-US" sz="1000" spc="-1" strike="noStrike">
              <a:solidFill>
                <a:srgbClr val="000000"/>
              </a:solidFill>
              <a:latin typeface="Arial"/>
            </a:endParaRPr>
          </a:p>
        </p:txBody>
      </p:sp>
      <p:sp>
        <p:nvSpPr>
          <p:cNvPr id="116" name=""/>
          <p:cNvSpPr/>
          <p:nvPr/>
        </p:nvSpPr>
        <p:spPr>
          <a:xfrm>
            <a:off x="4330440" y="4952880"/>
            <a:ext cx="884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waren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fidenc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s a Reader</a:t>
            </a:r>
            <a:endParaRPr b="0" lang="en-US" sz="1000" spc="-1" strike="noStrike">
              <a:solidFill>
                <a:srgbClr val="000000"/>
              </a:solidFill>
              <a:latin typeface="Arial"/>
            </a:endParaRPr>
          </a:p>
        </p:txBody>
      </p:sp>
      <p:sp>
        <p:nvSpPr>
          <p:cNvPr id="117" name=""/>
          <p:cNvSpPr/>
          <p:nvPr/>
        </p:nvSpPr>
        <p:spPr>
          <a:xfrm>
            <a:off x="5390640" y="4343400"/>
            <a:ext cx="8359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tyle of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teract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th Text</a:t>
            </a:r>
            <a:endParaRPr b="0" lang="en-US" sz="1000" spc="-1" strike="noStrike">
              <a:solidFill>
                <a:srgbClr val="000000"/>
              </a:solidFill>
              <a:latin typeface="Arial"/>
            </a:endParaRPr>
          </a:p>
        </p:txBody>
      </p:sp>
      <p:sp>
        <p:nvSpPr>
          <p:cNvPr id="118" name=""/>
          <p:cNvSpPr/>
          <p:nvPr/>
        </p:nvSpPr>
        <p:spPr>
          <a:xfrm>
            <a:off x="5391000" y="3124080"/>
            <a:ext cx="893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tyle of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teracting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th Others</a:t>
            </a:r>
            <a:endParaRPr b="0" lang="en-US" sz="1000" spc="-1" strike="noStrike">
              <a:solidFill>
                <a:srgbClr val="000000"/>
              </a:solidFill>
              <a:latin typeface="Arial"/>
            </a:endParaRPr>
          </a:p>
        </p:txBody>
      </p:sp>
      <p:sp>
        <p:nvSpPr>
          <p:cNvPr id="119" name=""/>
          <p:cNvSpPr/>
          <p:nvPr/>
        </p:nvSpPr>
        <p:spPr>
          <a:xfrm>
            <a:off x="4124880" y="182880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ocial Factors</a:t>
            </a:r>
            <a:endParaRPr b="0" lang="en-US" sz="1000" spc="-1" strike="noStrike">
              <a:solidFill>
                <a:srgbClr val="000000"/>
              </a:solidFill>
              <a:latin typeface="Arial"/>
            </a:endParaRPr>
          </a:p>
        </p:txBody>
      </p:sp>
      <p:sp>
        <p:nvSpPr>
          <p:cNvPr id="120" name=""/>
          <p:cNvSpPr/>
          <p:nvPr/>
        </p:nvSpPr>
        <p:spPr>
          <a:xfrm>
            <a:off x="2575800" y="2895480"/>
            <a:ext cx="541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ome</a:t>
            </a:r>
            <a:endParaRPr b="0" lang="en-US" sz="1000" spc="-1" strike="noStrike">
              <a:solidFill>
                <a:srgbClr val="000000"/>
              </a:solidFill>
              <a:latin typeface="Arial"/>
            </a:endParaRPr>
          </a:p>
        </p:txBody>
      </p:sp>
      <p:sp>
        <p:nvSpPr>
          <p:cNvPr id="121" name=""/>
          <p:cNvSpPr/>
          <p:nvPr/>
        </p:nvSpPr>
        <p:spPr>
          <a:xfrm>
            <a:off x="4408200" y="5867280"/>
            <a:ext cx="573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hool</a:t>
            </a:r>
            <a:endParaRPr b="0" lang="en-US" sz="1000" spc="-1" strike="noStrike">
              <a:solidFill>
                <a:srgbClr val="000000"/>
              </a:solidFill>
              <a:latin typeface="Arial"/>
            </a:endParaRPr>
          </a:p>
        </p:txBody>
      </p:sp>
      <p:sp>
        <p:nvSpPr>
          <p:cNvPr id="122" name=""/>
          <p:cNvSpPr/>
          <p:nvPr/>
        </p:nvSpPr>
        <p:spPr>
          <a:xfrm>
            <a:off x="6146280" y="3124080"/>
            <a:ext cx="87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mmunity</a:t>
            </a:r>
            <a:endParaRPr b="0" lang="en-US" sz="1000" spc="-1" strike="noStrike">
              <a:solidFill>
                <a:srgbClr val="000000"/>
              </a:solidFill>
              <a:latin typeface="Arial"/>
            </a:endParaRPr>
          </a:p>
        </p:txBody>
      </p:sp>
      <p:sp>
        <p:nvSpPr>
          <p:cNvPr id="123" name=""/>
          <p:cNvSpPr/>
          <p:nvPr/>
        </p:nvSpPr>
        <p:spPr>
          <a:xfrm>
            <a:off x="5085720" y="2743200"/>
            <a:ext cx="738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motion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rehension Process</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rposeful:  We set a purpose for every text we read.  Your purpose in reading this text is different from your purpose in reading a novel (remember reading for fun????).  </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r purpose for reading then changes how you comprehend the text.  When you know you have a test, you tend to attend to the details of a text in a different way from when you are reading as entertain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rehension Process</a:t>
            </a:r>
            <a:endParaRPr b="0" lang="en-US" sz="4400" spc="-1" strike="noStrike">
              <a:solidFill>
                <a:srgbClr val="333399"/>
              </a:solidFill>
              <a:latin typeface="Tahoma"/>
            </a:endParaRPr>
          </a:p>
        </p:txBody>
      </p:sp>
      <p:sp>
        <p:nvSpPr>
          <p:cNvPr id="127"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ructive.  Good readers construct meaning from text.  When you read a novel, you pull from your experiences with other forms of fiction in order to understand it.  When you read your music history text, you pull from your experiences reading about and playing music in order to understand the text.</a:t>
            </a:r>
            <a:endParaRPr b="0" lang="en-US" sz="2000" spc="-1" strike="noStrike">
              <a:solidFill>
                <a:srgbClr val="000000"/>
              </a:solidFill>
              <a:latin typeface="Tahoma"/>
            </a:endParaRPr>
          </a:p>
        </p:txBody>
      </p:sp>
      <p:pic>
        <p:nvPicPr>
          <p:cNvPr id="128" name="bd06494_" descr=""/>
          <p:cNvPicPr/>
          <p:nvPr/>
        </p:nvPicPr>
        <p:blipFill>
          <a:blip r:embed="rId1"/>
          <a:stretch/>
        </p:blipFill>
        <p:spPr>
          <a:xfrm>
            <a:off x="1182600" y="2604960"/>
            <a:ext cx="3810240" cy="294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rehension Process</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tivated.  This is related to setting a purpose.  It also has to do with how people experience the process of reading.  Some children are motivated to read by the pleasure the have in the process of reading.  Other children dislike reading.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rehension Process</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killful and Strategic.  There are strategies that you use when you are comprehending a text.  You may or may not be aware of these strategies.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gave you a strategy for comprehending the “Ladle Rat Rotten Hut” text.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days, children are being taught explicitly reading strategies and how to choose to use them.</a:t>
            </a:r>
            <a:endParaRPr b="0" lang="en-US" sz="2000" spc="-1" strike="noStrike">
              <a:solidFill>
                <a:srgbClr val="000000"/>
              </a:solidFill>
              <a:latin typeface="Tahoma"/>
            </a:endParaRPr>
          </a:p>
        </p:txBody>
      </p:sp>
      <p:pic>
        <p:nvPicPr>
          <p:cNvPr id="133" name="bd07067_" descr=""/>
          <p:cNvPicPr/>
          <p:nvPr/>
        </p:nvPicPr>
        <p:blipFill>
          <a:blip r:embed="rId1"/>
          <a:stretch/>
        </p:blipFill>
        <p:spPr>
          <a:xfrm>
            <a:off x="5145120" y="2076480"/>
            <a:ext cx="3809880" cy="399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6:13:28Z</dcterms:created>
  <dc:creator> </dc:creator>
  <dc:description/>
  <dc:language>en-US</dc:language>
  <cp:lastModifiedBy> </cp:lastModifiedBy>
  <dcterms:modified xsi:type="dcterms:W3CDTF">2005-02-26T00:43:27Z</dcterms:modified>
  <cp:revision>3</cp:revision>
  <dc:subject/>
  <dc:title>Comprehension</dc:title>
</cp:coreProperties>
</file>